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DBD-4356-4B11-89BE-5C3392D7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6AA-D862-4E9B-9A49-EE54A05E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E637-9B0D-45F6-B30B-B8F40A8E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054-47E5-4C58-A684-50DF7198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559-D880-460A-9183-B674A31B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6F46-1ECA-4537-BF19-E1810940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D2B1-B581-4428-A1A3-796501FF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06D-1D6A-4D46-A49C-B30DBEED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A97-1756-4ADB-A72C-8C11AE0F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694-7EDA-4462-8754-7775E80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8C8-3E86-4313-A021-EC1D9896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A32-3178-4B31-843C-1B982EA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2D9F-78C3-411B-8428-65E2B8A06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cuadorupdate.files.wordpress.com/2008/09/full_moon_02_20001.jpg&amp;imgrefurl=http://ecuadorupdate.wordpress.com/2008/09/02/full-moon-hair-cuts-for-todos/&amp;usg=__Jlq9ZCQs3mIWqGqtQ-mSKQ4Zs9U=&amp;h=1772&amp;w=1735&amp;sz=1408&amp;hl=en&amp;start=3&amp;um=1&amp;itbs=1&amp;tbnid=zgjzJvc9cam6uM:&amp;tbnh=150&amp;tbnw=147&amp;prev=/images%3Fq%3Dfull%2Bmoon%26um%3D1%26hl%3Den%26safe%3Dactive%26rls%3Dcom.microsoft:en-us%26tbs%3Disch:1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259.photobucket.com/albums/hh299/Skate-Rocker/FightClub.jpg&amp;imgrefurl=http://www.myspace.com/dj_tereve&amp;usg=__BTM9zMhcvtBVB10wvACCvRBQQJw=&amp;h=472&amp;w=331&amp;sz=65&amp;hl=en&amp;start=4&amp;um=1&amp;itbs=1&amp;tbnid=AhGFrqC6j_qp_M:&amp;tbnh=129&amp;tbnw=90&amp;prev=/images%3Fq%3Dfight%2Bclub%26um%3D1%26hl%3Den%26safe%3Dactive%26sa%3DN%26rls%3Dcom.microsoft:en-us%26tbs%3Disch: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newvaluestreams.com/wordpress/wp-content/uploads/2009/08/texting-in-class3.jpg&amp;imgrefurl=http://newvaluestreams.com/wordpress/%3Fp%3D750&amp;usg=__mi20F70sJfPCLGnTUH9HHlNlpIo=&amp;h=241&amp;w=227&amp;sz=14&amp;hl=en&amp;start=7&amp;um=1&amp;itbs=1&amp;tbnid=TAODGEcosR04LM:&amp;tbnh=110&amp;tbnw=104&amp;prev=/images%3Fq%3Dtexting%2Bin%2Bclass%26um%3D1%26hl%3Den%26safe%3Dactive%26rls%3Dcom.microsoft:en-us%26tbs%3Disch: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octorbulldog.files.wordpress.com/2009/07/national-id-card.jpg&amp;imgrefurl=http://doctorbulldog.wordpress.com/2009/07/30/biblical-prophecy-or-international-scam/&amp;usg=__5ZPsCPG7sebn-Jx47UmvDlq77nM=&amp;h=450&amp;w=345&amp;sz=63&amp;hl=en&amp;start=4&amp;um=1&amp;itbs=1&amp;tbnid=97K-38tNyQVKJM:&amp;tbnh=127&amp;tbnw=97&amp;prev=/images%3Fq%3Did%2Bcards%26um%3D1%26hl%3Den%26safe%3Dactive%26rls%3Dcom.microsoft:en-us%26tbs%3Disch: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hotrod.com/f/10119763%2Bw750%2Bst0/hrdp_0803_33_z%2Bcustom_street_racing_cars%2B1980_chevy_malibu_front_view.jpg&amp;imgrefurl=http://www.hotrod.com/eventcoverage/hrdp_0803_custom_street_racing_cars/photo_33.html&amp;usg=__iPW5JMAfOwnrqwqll0YnhxAsp-M=&amp;h=480&amp;w=640&amp;sz=59&amp;hl=en&amp;start=8&amp;um=1&amp;itbs=1&amp;tbnid=7TO7Mz8eNC5cMM:&amp;tbnh=103&amp;tbnw=137&amp;prev=/images%3Fq%3Dracing%2Bcars%26um%3D1%26hl%3Den%26safe%3Dactive%26rls%3Dcom.microsoft:en-us%26tbs%3Disch: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ccess-overseas.com/images/dea_shirt_logoM.jpg&amp;imgrefurl=http://www.myspace.com/43062563&amp;usg=__eHCqVev-sBKtS032sGfpWLBAR8I=&amp;h=288&amp;w=200&amp;sz=10&amp;hl=en&amp;start=19&amp;um=1&amp;itbs=1&amp;tbnid=8XhgZQ2DNRyogM:&amp;tbnh=115&amp;tbnw=80&amp;prev=/images%3Fq%3Ddea%2Blogo%26um%3D1%26hl%3Den%26safe%3Dactive%26rls%3Dcom.microsoft:en-us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3.amazonaws.com/picable/2006/11/18/9518_Party-In-The-Trunk-of-My-Car_620.jpg&amp;imgrefurl=http://www.picable.com/People/Women/Party-In-The-Trunk-of-My-Car.9075&amp;usg=__RpwmyF_AXu6qL58vWcZS4fve3YA=&amp;h=465&amp;w=620&amp;sz=44&amp;hl=en&amp;start=4&amp;um=1&amp;itbs=1&amp;tbnid=PlpXHaFwdl-_aM:&amp;tbnh=102&amp;tbnw=136&amp;prev=/images%3Fq%3Dkids%2Bin%2Btrunk%2Bof%2Bcar%26um%3D1%26hl%3Den%26safe%3Dactive%26rls%3Dcom.microsoft:en-us%26tbs%3Disch: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travelhouseuk.files.wordpress.com/2009/09/alain_robert_spider_man.jpg&amp;imgrefurl=http://travelhouseuk.wordpress.com/2009/09/03/french-spiderman-fined/&amp;usg=__mVFE4kEvDVd5AiJIsdwK7YHaUgE=&amp;h=390&amp;w=510&amp;sz=16&amp;hl=en&amp;start=12&amp;um=1&amp;itbs=1&amp;tbnid=N03fhiJLRjaNtM:&amp;tbnh=100&amp;tbnw=131&amp;prev=/images%3Fq%3Dspiderman%2Bscaling%2Bbuilding%26um%3D1%26hl%3Den%26safe%3Dactive%26rls%3Dcom.microsoft:en-us%26tbs%3Disch:1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asmo-id.com/site/afbeeldingen/081124%2520girls%2520shoes.jpg&amp;imgrefurl=http://www.asmo-id.com/site/products/girls/&amp;usg=__8_ERk17rblb4LhTdUfURWo-Qw_4=&amp;h=480&amp;w=480&amp;sz=75&amp;hl=en&amp;start=7&amp;um=1&amp;itbs=1&amp;tbnid=3Zg2e-nd4JnjpM:&amp;tbnh=129&amp;tbnw=129&amp;prev=/images%3Fq%3Dgirls%2Bshoes%26um%3D1%26hl%3Den%26safe%3Dactive%26rls%3Dcom.microsoft:en-us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olishcultureacpc.org/orgs/AmericanFlag.jpg&amp;imgrefurl=http://www.polishcultureacpc.org/orgs/PHSP.html&amp;usg=__WZtGcyUkNlfkooE1feQov-9XVaM=&amp;h=1055&amp;w=1173&amp;sz=72&amp;hl=en&amp;start=11&amp;um=1&amp;itbs=1&amp;tbnid=AFe-TItaJg8STM:&amp;tbnh=135&amp;tbnw=150&amp;prev=/images%3Fq%3Damerican%2Bflag%26um%3D1%26hl%3Den%26safe%3Dactive%26rls%3Dcom.microsoft:en-us%26tbs%3Disch: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ministration’s Top 10 Things NEVER to do at C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19520" y="3733920"/>
            <a:ext cx="3504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ing windows while mooning in the M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666880"/>
            <a:ext cx="4191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 the #1 thing the administration says you should NEVER do at C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ning a fight clu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905120"/>
            <a:ext cx="6705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ING IN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2666880"/>
            <a:ext cx="4724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someone else’s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590920"/>
            <a:ext cx="4800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ing cars in the parking 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819520"/>
            <a:ext cx="5181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essing/using/distributing/experiencing drugs and/or 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971800"/>
            <a:ext cx="3962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ving kids into a trunk of a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743200"/>
            <a:ext cx="4876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ing buildings or climbing w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514600"/>
            <a:ext cx="5181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ling girls shoes… and doing various things with them on cam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99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RESPECTING THE NATIONAL ANTHEM…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52480" y="2819520"/>
            <a:ext cx="5486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21:37:53Z</dcterms:created>
  <dc:creator>ASD</dc:creator>
  <dc:description/>
  <dc:language>en-US</dc:language>
  <cp:lastModifiedBy>Tech</cp:lastModifiedBy>
  <dcterms:modified xsi:type="dcterms:W3CDTF">2010-06-03T22:35:45Z</dcterms:modified>
  <cp:revision>4</cp:revision>
  <dc:subject/>
  <dc:title>Administration’s Top 10 Things NEVER to do at CDO</dc:title>
</cp:coreProperties>
</file>